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E789-E9C3-4D74-9998-537A1710E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F1B8-BAF4-4052-BBCA-300DD9F0F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599A-242A-4845-AB95-EC834D74E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A41F-B6E8-4455-930E-A6539A5B4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E3CD-A79B-46BC-B5E8-55365BF1B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98E4-6F0B-4E57-BF61-DD0A218C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6D49-653C-40EC-A160-B4C788156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91CF-1595-4740-9356-653DC0E88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54F7-15C5-456A-A4A1-23D33A896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8667-B0E9-47D5-B229-59495CF5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39E0-E8E9-4AD6-9947-63138517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2A58-83E7-49FE-BC29-EE86A95C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A7F8A-6984-4E35-9A73-AE56B222FD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2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gmr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42987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09480" y="52578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mer Board, trace side, showing jumpers &amp; component lo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r2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40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219320" y="518148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r analog board, bottom view, with component locations in 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0T23:43:28Z</dcterms:created>
  <dc:creator>Tom Duncan</dc:creator>
  <dc:description/>
  <dc:language>en-US</dc:language>
  <cp:lastModifiedBy>R. J. (Bob) Schetgen, KU7G</cp:lastModifiedBy>
  <dcterms:modified xsi:type="dcterms:W3CDTF">1999-12-21T20:58:22Z</dcterms:modified>
  <cp:revision>6</cp:revision>
  <dc:subject/>
  <dc:title>No Slide Title</dc:title>
</cp:coreProperties>
</file>